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57BC4-84E3-4625-AC41-63CA9B3E3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8B449-C142-41A2-B27E-42E26B9A1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29593-BF2C-459B-AE7B-BA90FE5B8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F3A68-6DBB-4EF5-AF65-527E4D7F3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ABB90-8C4B-407C-9C19-B0F734B4E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04932-1139-4943-B74D-6CE9D57CB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8DB29-C893-4C0A-83BC-92C3F90A8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843C8-3AD4-493F-B16E-72BBDEF92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A6472-AF75-4803-959E-1DA939238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FECF0-3E05-422F-93E6-839B8E147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B06E6-BCD7-47DC-9287-F88DA9A39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C87F4-FEF2-46C0-8753-E71F92001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155E3-2A96-43C6-8781-D0F1A4EF9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34C3E-640D-42EE-96BA-1D5986DF0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40133-2115-4041-8C21-C41EC1B47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61C8C-A726-4F55-B069-1EBC290DC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9B2B1-59BD-4AB3-A80C-29B3EBC23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1A6F1-1971-4A33-9E50-752197585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8B0CA-E559-4A9F-B0F2-6E17355AD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E3AD0-8543-4512-989D-014CAB5AC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53451-F5C7-4460-8A76-301515E07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F7AAC-3743-4665-9956-BE88E2FE0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7179C-837C-4FE7-B348-A64D9F59F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2003E-82BA-4A67-A833-CD2FBF2EE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4C19C-9E75-496C-920A-0B512054EEE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EB1D1-00DA-4856-90F6-52CA53A7BC2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sent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hunks (packets) of data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passed from node to node between source and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terminal to computer and computer to computer 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systems have large overheads to compensate for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rn systems are more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s can be caught in en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overhead for error control is stripped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ution of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ttle overhead fo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packet (called cell)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thing from 10Mbps to G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data rate using packet switching techn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d Services Digita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replace public telecom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de variety of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ly digital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or small cam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owned by same organization as attached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much hig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roadcas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w some switched systems and ATM are being intro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communications between entities in a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peak the same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-mail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te sen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 of a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an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 ma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sk of communication broken up into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example file transfer could use three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service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File Transfer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92480"/>
            <a:ext cx="800100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Three Layer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Communications Model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s data to be transmit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data into transmittable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s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received signal into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s incoming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the computer and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ing computer provides address of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voke level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ent on type of network used (LAN, packet switched etc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ata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being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different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e-mail, fil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evels of addressing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puter needs unique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application on a (multi-tasking) computer needs a unique address within the comp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ervice access point or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s an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528"/>
          <a:stretch/>
        </p:blipFill>
        <p:spPr>
          <a:xfrm>
            <a:off x="1676520" y="1752480"/>
            <a:ext cx="561024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 in Simplified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47840"/>
            <a:ext cx="807696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Data Units (PDU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ach layer, protocols are used to commun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rmation is added to user data at each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 may fragmen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gment has a transport header ad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a transport protocol data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s network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 for destination 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ies reque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a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22372"/>
          <a:stretch/>
        </p:blipFill>
        <p:spPr>
          <a:xfrm>
            <a:off x="685800" y="2117880"/>
            <a:ext cx="784872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US Defense Advanced Research Project Agency (DARPA) for its packet switched network (ARPAN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global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official model but a working o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o host or transpor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Communications Model -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060"/>
          <a:stretch/>
        </p:blipFill>
        <p:spPr>
          <a:xfrm>
            <a:off x="457200" y="1676520"/>
            <a:ext cx="8153280" cy="47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interface between data transmission device (e.g. computer) and transmission medium o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of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end system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 pro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voking services like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Layer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 may be attached to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functions across multipl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ed in end system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 (TC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eliver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ing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ttp, SM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914400" y="1676520"/>
            <a:ext cx="7315200" cy="50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Systems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International Organization for Standardization (IS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theoretical system delivered too lat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is the de facto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v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16127"/>
          <a:stretch/>
        </p:blipFill>
        <p:spPr>
          <a:xfrm>
            <a:off x="838080" y="1676520"/>
            <a:ext cx="7772400" cy="51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d to allow for interoperability between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a large market for equipment and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products from different vendors to commun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eze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ultiple standards for the same t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Communications T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System Uti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r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ing and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format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 Organiz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Socie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(formally CCIT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rther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, W. Data and Computer Communications (6th edition), Prentice Hall 1999 chapter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 for Stallings boo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ww.shore.net/~ws/DCC6e.htm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for IETF, IEEE, ITU-T, 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Requests for Comment (RF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net News grou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dcom.*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protocols.tcp-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Data Communications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9050"/>
          <a:stretch/>
        </p:blipFill>
        <p:spPr>
          <a:xfrm>
            <a:off x="457200" y="2295360"/>
            <a:ext cx="8153280" cy="28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communication not usually prac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re too far a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set of devices would need impractical number of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Network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914400" y="1668600"/>
            <a:ext cx="6705720" cy="51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de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geographical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ing public rights of w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in part on common carrier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 Transfer Mode (AT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s path established for the duration of the convers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0:42Z</dcterms:modified>
  <cp:revision>15</cp:revision>
  <dc:subject/>
  <dc:title>William Stallings Data and Computer Communications</dc:title>
</cp:coreProperties>
</file>